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2DC-5A02-4C7A-A106-4E67C187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C13-5B8D-4F03-9433-45A52195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E35-24CB-4BDA-8F94-2FB31764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B55-DFAD-4708-A275-A68A0858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B0F-05B4-40E6-BF3D-D98AD9E6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88A-6D0A-4DE4-ACA3-5F5B86F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835-5088-44A6-9E3F-28922DF4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A5C-7C90-4B9D-AA0B-1F2CEEA1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5C7-35AA-45BA-BDEE-4322C2C2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641-874C-44B8-9A3A-05A593A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C64-4F3B-4799-831B-71F94F5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477-BCDB-45E7-8210-B3955CB9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AB13-4BEA-40B4-A169-EC285023A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86440" y="0"/>
            <a:ext cx="3157560" cy="2108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3644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6000" y="222120"/>
            <a:ext cx="750384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broken eggs …?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87720"/>
            <a:ext cx="88898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went to the market with a basket of eg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my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of my remaining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of my remaining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ar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of my remaining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sold half of my remaining eggs plus half an egg to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was left with just one eg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e the above transactions possible without breaking eg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ow many eggs did I start wi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7:18:31Z</dcterms:created>
  <dc:creator>Trifon</dc:creator>
  <dc:description/>
  <dc:language>en-US</dc:language>
  <cp:lastModifiedBy>Trifon</cp:lastModifiedBy>
  <dcterms:modified xsi:type="dcterms:W3CDTF">2003-11-02T07:18:31Z</dcterms:modified>
  <cp:revision>1</cp:revision>
  <dc:subject/>
  <dc:title>Slide 1</dc:title>
</cp:coreProperties>
</file>